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1CB6-7423-4F93-A017-ADF0981D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C3CE-F226-4323-AFE9-8A5B5B01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35D8-45C7-4EC4-8268-4E70D6A15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5260-A7C8-4102-984D-B3636A4D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A17E-050F-41B7-8573-F5DCD181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A4FB-C8F3-4ED8-9556-070E776B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B346-B951-4B7B-A2BB-628F6F60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D182-9E7F-4529-BF84-2354B470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C2CD-A1E4-495B-AD8C-A8E564B0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F5A4-251D-4FA8-B50B-349E5A63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D935-C0DB-4DA7-992F-A8604BDF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D682-AF73-4613-A703-98BFD420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7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3C70-3A62-4772-9412-9539747835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Nombres 0 à 3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0 </a:t>
            </a:r>
            <a:r>
              <a:rPr b="0" lang="fr-FR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zér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r-FR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un/u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fr-FR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deu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fr-FR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troi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fr-FR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quatr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0" lang="fr-FR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cinq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0" lang="fr-FR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si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7 </a:t>
            </a:r>
            <a:r>
              <a:rPr b="0" lang="fr-FR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sep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8 </a:t>
            </a:r>
            <a:r>
              <a:rPr b="0" lang="fr-FR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hu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9 </a:t>
            </a:r>
            <a:r>
              <a:rPr b="0" lang="fr-FR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neuf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fr-FR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dix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s://encrypted-tbn0.google.com/images?q=tbn:ANd9GcSEuVg5jPFl9ZZOJlfM_OgIAK_tfyFn0ZZNSySOvm5UHDxkUYQO"/>
          <p:cNvPicPr/>
          <p:nvPr/>
        </p:nvPicPr>
        <p:blipFill>
          <a:blip r:embed="rId1"/>
          <a:stretch/>
        </p:blipFill>
        <p:spPr>
          <a:xfrm>
            <a:off x="685800" y="838080"/>
            <a:ext cx="1752480" cy="1257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s://encrypted-tbn0.google.com/images?q=tbn:ANd9GcSciI6DptdufmuxKasLAPT_sQT2qKZd3uIPQuruh1NzhigtHztw"/>
          <p:cNvPicPr/>
          <p:nvPr/>
        </p:nvPicPr>
        <p:blipFill>
          <a:blip r:embed="rId2"/>
          <a:stretch/>
        </p:blipFill>
        <p:spPr>
          <a:xfrm>
            <a:off x="6477120" y="5181480"/>
            <a:ext cx="2514600" cy="1495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s://encrypted-tbn3.google.com/images?q=tbn:ANd9GcTVqTqAmiQ2l2oxFz7COm7CiUM9pRJmyyV3R_9_pbrqsSp-CZrS7w"/>
          <p:cNvPicPr/>
          <p:nvPr/>
        </p:nvPicPr>
        <p:blipFill>
          <a:blip r:embed="rId3"/>
          <a:stretch/>
        </p:blipFill>
        <p:spPr>
          <a:xfrm>
            <a:off x="609480" y="5259240"/>
            <a:ext cx="1828800" cy="1227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https://encrypted-tbn2.google.com/images?q=tbn:ANd9GcStksyVuUMd1TiKsjEoXV9oqC8TtFNnhqfv3alY8K-mh9HimpuIlw"/>
          <p:cNvPicPr/>
          <p:nvPr/>
        </p:nvPicPr>
        <p:blipFill>
          <a:blip r:embed="rId4"/>
          <a:stretch/>
        </p:blipFill>
        <p:spPr>
          <a:xfrm>
            <a:off x="3429000" y="2209680"/>
            <a:ext cx="2224080" cy="1733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https://encrypted-tbn2.google.com/images?q=tbn:ANd9GcRhzl1OA62SgoDWDyjS3nqOLdBj_SHIgIYjmDln18ZOHsel_zNweg"/>
          <p:cNvPicPr/>
          <p:nvPr/>
        </p:nvPicPr>
        <p:blipFill>
          <a:blip r:embed="rId5"/>
          <a:stretch/>
        </p:blipFill>
        <p:spPr>
          <a:xfrm>
            <a:off x="6172200" y="380880"/>
            <a:ext cx="2724120" cy="1676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https://encrypted-tbn2.google.com/images?q=tbn:ANd9GcR31BLDL3pNvn5DclgDyYkJgvAPxgyiBoTk3-xQtT5k5S8Q772yhQ"/>
          <p:cNvPicPr/>
          <p:nvPr/>
        </p:nvPicPr>
        <p:blipFill>
          <a:blip r:embed="rId6"/>
          <a:stretch/>
        </p:blipFill>
        <p:spPr>
          <a:xfrm>
            <a:off x="609480" y="2895480"/>
            <a:ext cx="1913040" cy="1524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http://youritlist.com/wp-content/uploads/2011/06/harry-potter-books-1-7111.jpg"/>
          <p:cNvPicPr/>
          <p:nvPr/>
        </p:nvPicPr>
        <p:blipFill>
          <a:blip r:embed="rId7"/>
          <a:stretch/>
        </p:blipFill>
        <p:spPr>
          <a:xfrm>
            <a:off x="3429000" y="43434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http://rsrc.psychologytoday.com/files/imagecache/article-inline-full/blogs/47665/2010/10/49291-38060.jpg"/>
          <p:cNvPicPr/>
          <p:nvPr/>
        </p:nvPicPr>
        <p:blipFill>
          <a:blip r:embed="rId8"/>
          <a:stretch/>
        </p:blipFill>
        <p:spPr>
          <a:xfrm>
            <a:off x="6172200" y="2743200"/>
            <a:ext cx="2971800" cy="1517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https://encrypted-tbn0.google.com/images?q=tbn:ANd9GcSCJUXuVyQoqHJbMZDwSt7EnbHmCFAPZ1V1zY4FB3qCNxQhyXq0Ng"/>
          <p:cNvPicPr/>
          <p:nvPr/>
        </p:nvPicPr>
        <p:blipFill>
          <a:blip r:embed="rId9"/>
          <a:srcRect l="0" t="4262" r="34339" b="0"/>
          <a:stretch/>
        </p:blipFill>
        <p:spPr>
          <a:xfrm>
            <a:off x="3733920" y="228600"/>
            <a:ext cx="16761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11 à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ou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reiz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uator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uinz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17-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What’s the word for 10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di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7? 8? 9? (sept, huit, neuf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You use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dix  + a hyphen + sept/huit/neu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Dix-se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Dix-hu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Dix-neu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20-3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Ving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Vingt et u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22-29 (vingt-</a:t>
            </a:r>
            <a:r>
              <a:rPr b="0" i="1" lang="fr-FR" sz="2200" spc="-1" strike="noStrike">
                <a:solidFill>
                  <a:srgbClr val="000000"/>
                </a:solidFill>
                <a:latin typeface="Calibri"/>
              </a:rPr>
              <a:t>nombres deux à neuf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Vingt-deu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Vingt-tro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Vingt-quat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Vingt-cinq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Vingt-si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Vingt-sep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Vingt-hu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Vingt-neu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Tren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atique : L’addition + le subt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.  Dix plus dix font ______________ (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Huit moins deux font __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ouze plus cinq font ___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Vingt plus neuf font ____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rente moins quinze font ___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plus vingt-deux font _____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o Introduce and Resp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To introdu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Je te/vous présente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’d like to present you to_____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Ça, c’est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his is 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’est un ami/une am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his is a fri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Respo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onjour/Sal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chanté(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ery nice to meet you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 Ask How Old Someone 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Question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 as quel âg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l/elle a quel âg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’ai _________ a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l a _________ a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1T16:09:02Z</dcterms:created>
  <dc:creator>Robbie</dc:creator>
  <dc:description/>
  <dc:language>en-US</dc:language>
  <cp:lastModifiedBy>Robbie</cp:lastModifiedBy>
  <dcterms:modified xsi:type="dcterms:W3CDTF">2012-08-19T19:19:34Z</dcterms:modified>
  <cp:revision>2</cp:revision>
  <dc:subject/>
  <dc:title>Les Nombres 0 à 30</dc:title>
</cp:coreProperties>
</file>